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AEE-650C-448C-9C88-65CEA6BB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D40-074A-4ED0-9395-43CE1D8A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BC7-F975-451A-9C50-6479DA19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790-31C2-41B6-9916-BBCA929C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B5A-9992-4E3B-A1B2-F78BC0B4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CED-4284-475A-98B1-033D3971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B79-55AB-4AEF-862F-F220DFCD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1FD-E3CC-407C-A8C5-D339BBDD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1AA-167D-450C-A4F2-AF3A6A56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5F1-D5C6-4420-A6C6-2DE7BB6D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B42-9483-4655-A89E-42A301B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55F-4C45-4BEA-912A-FCCBDE0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7B34-B7B3-423D-912B-62229EF9C8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09680"/>
            <a:ext cx="471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re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the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77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96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391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40736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2057400"/>
            <a:ext cx="762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0736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391520" cy="1676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1371600"/>
            <a:ext cx="609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8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2:16Z</dcterms:modified>
  <cp:revision>211</cp:revision>
  <dc:subject/>
  <dc:title>Slide 1</dc:title>
</cp:coreProperties>
</file>